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C0EE-3D54-4686-9195-4F5A9AAE7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C48E-F059-47C6-ACC9-25147773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89A8-437D-407E-A5B4-7F4106C6F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95F9-085B-4837-B136-463E81292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513A-47FD-46BD-A333-8A56EE1B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7164-4B49-406C-8AB5-7FC9621E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B475-78BC-4F72-B66D-B4B18D85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46B1-36F9-4167-997A-8D6F5537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1846-2184-40F1-B908-E2C58217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E3CA-2D4E-4184-9833-AAF3DEA9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BB2C-0C58-4AB4-A458-CC325FEC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4F9F-B23D-41DE-8188-A881B491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0CAF-2F75-4123-9897-59BE29811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f4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 Inte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1280" y="304920"/>
            <a:ext cx="7181640" cy="6203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5805360"/>
            <a:ext cx="59040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71640" y="1557360"/>
            <a:ext cx="12956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16360" y="1413000"/>
            <a:ext cx="172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e Trade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344600" y="620640"/>
            <a:ext cx="5981760" cy="6232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71640" y="6021360"/>
            <a:ext cx="518472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56000" y="981000"/>
            <a:ext cx="2303280" cy="5032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5240" y="97488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s U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42920" y="291960"/>
            <a:ext cx="6912000" cy="6007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508720" y="1413000"/>
            <a:ext cx="180000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1280" y="1773360"/>
            <a:ext cx="122400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40360" y="5734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L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16000" y="260280"/>
            <a:ext cx="6743880" cy="6222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796000" y="1700280"/>
            <a:ext cx="1655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56000" y="1628640"/>
            <a:ext cx="122400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80000" y="58770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L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09:35:28Z</dcterms:created>
  <dc:creator>user</dc:creator>
  <dc:description/>
  <dc:language>en-US</dc:language>
  <cp:lastModifiedBy>user</cp:lastModifiedBy>
  <dcterms:modified xsi:type="dcterms:W3CDTF">2011-10-05T09:37:02Z</dcterms:modified>
  <cp:revision>2</cp:revision>
  <dc:subject/>
  <dc:title>Economic Integration</dc:title>
</cp:coreProperties>
</file>